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D26-CD39-4631-A9F0-0DB27BEF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9D8-E05E-43D2-B903-FA7FE22E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63F-2061-42C1-84C5-C06FD381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DB8-E576-4852-B970-F92FBCEB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B0B-8281-46D4-8C49-02EBC290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89C-792F-4CB0-8183-F8F3BB2E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584-E401-437B-BDB4-3DFB2C9D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2F1-A409-4D3E-8F7D-5F21813F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484-8860-429A-B235-9092F34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E91-5D5B-4D43-BF42-5BB63FB2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977-B6E3-406C-A514-CFE46A7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752-D986-418D-8584-BA307E2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8795-FD30-4CFC-9DB3-8B74F3A3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UR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 kostet d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457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1911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Tis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Tisch kostet fünfundneun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6720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4191120"/>
            <a:ext cx="2895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Hau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304812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Haus kostet hunderttausend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19112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,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67080" y="457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T-shi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T-shirt kostet elf Euro fünfunddreißig 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492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457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n die Schuh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Schuhe kosten fünfund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6956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9880" y="457200"/>
            <a:ext cx="510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n die Rollschuh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Rollschuhe kosten dreiundsech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01924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20196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41911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9880" y="45720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Uh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819520" y="2895480"/>
            <a:ext cx="586728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Uhr kostet dreihundert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314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2057400" cy="246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141720" cy="32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419720" y="182880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Bleistift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3141720" cy="327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29200" y="3352680"/>
            <a:ext cx="2057400" cy="24685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380880" y="190512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Uhr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72080" cy="4064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1334880" cy="274140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4191120" y="190512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Film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72080" cy="4064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1334880" cy="2741400"/>
          </a:xfrm>
          <a:prstGeom prst="rect">
            <a:avLst/>
          </a:prstGeom>
          <a:ln w="0">
            <a:noFill/>
          </a:ln>
        </p:spPr>
      </p:pic>
      <p:sp>
        <p:nvSpPr>
          <p:cNvPr id="139" name="Cloud"/>
          <p:cNvSpPr/>
          <p:nvPr/>
        </p:nvSpPr>
        <p:spPr>
          <a:xfrm>
            <a:off x="380880" y="1981080"/>
            <a:ext cx="43434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Computer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Europe, Euro Area, EU"/>
          <p:cNvPicPr/>
          <p:nvPr/>
        </p:nvPicPr>
        <p:blipFill>
          <a:blip r:embed="rId2"/>
          <a:stretch/>
        </p:blipFill>
        <p:spPr>
          <a:xfrm>
            <a:off x="3048120" y="457200"/>
            <a:ext cx="560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10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7" name="Cloud"/>
          <p:cNvSpPr/>
          <p:nvPr/>
        </p:nvSpPr>
        <p:spPr>
          <a:xfrm>
            <a:off x="380880" y="1981080"/>
            <a:ext cx="50292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Kugelschreiber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410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3581280" y="1981080"/>
            <a:ext cx="50292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Haus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62" name="Cloud"/>
          <p:cNvSpPr/>
          <p:nvPr/>
        </p:nvSpPr>
        <p:spPr>
          <a:xfrm>
            <a:off x="53352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Lampe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71" name="Cloud"/>
          <p:cNvSpPr/>
          <p:nvPr/>
        </p:nvSpPr>
        <p:spPr>
          <a:xfrm>
            <a:off x="342900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Auto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79" name="Cloud"/>
          <p:cNvSpPr/>
          <p:nvPr/>
        </p:nvSpPr>
        <p:spPr>
          <a:xfrm>
            <a:off x="342900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40384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6858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Lamp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4343400" y="3200400"/>
            <a:ext cx="4343400" cy="2911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Lampe kostet dreiß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6858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Stuh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3352680" y="3200400"/>
            <a:ext cx="5334120" cy="3087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Stuhl kostet neunund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2766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6858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Bleistiftspitz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Bleistiftspitzer kostet zwölf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432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5335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Kamer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Kamera kostet einundzwan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949320"/>
            <a:ext cx="38862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1911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Fil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Film kostet zwei Euro fünfzig 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334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1911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Bet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Bett kostet zweihundert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675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9:23:34Z</dcterms:created>
  <dc:creator>Paul Widergren</dc:creator>
  <dc:description/>
  <dc:language>en-US</dc:language>
  <cp:lastModifiedBy>Paul Widergren</cp:lastModifiedBy>
  <dcterms:modified xsi:type="dcterms:W3CDTF">2004-12-31T17:30:19Z</dcterms:modified>
  <cp:revision>3</cp:revision>
  <dc:subject/>
  <dc:title>EUROS</dc:title>
</cp:coreProperties>
</file>